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8B3-F58D-47A1-8FB0-4E7CB3CC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0311-BA3D-4910-AC64-30167499F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5B8A-4097-4BBE-A00E-D58F592A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94AE-4368-40D9-B8D2-7E65CD77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3A08-1E69-4E12-9921-111F47F0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FDD2-9BF5-45A6-930B-578CE936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8D2F-5AC4-4A15-BEB2-BE232A21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3375-EB67-4F6C-B8DC-4D9BA32D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1BC7-6B65-4998-AE10-9A09BA86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30972-A448-47E8-A64C-B23E3AF3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0703-F4FC-47B7-B824-FE506337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AA23-4A7C-4569-BB83-81AD8CA7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C510-9671-4B11-9816-2658F544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9D8E-6AA2-4444-B449-C93A4463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B9D3-7306-44AF-81E5-E7FE45DF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41B6-7C36-40A6-9EC2-71BDA9A3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DE3B-708C-470A-8657-D4B9ECD97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AC42-F34A-4332-9695-D63D35E9B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86C9B-4AC7-44E7-A480-844DB9CC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6DCF8-F78B-4E07-A70C-8EA4CDB2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86E2F-F6FE-4821-A4C1-9F4DA996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FDB00-0344-4201-B915-B7232F42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AB64-E94F-435A-A1C7-0A648D92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9B54B-3236-45D9-B685-D674DBC1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E8BB9-10AD-420D-8F2A-C49034CD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7B54E-65B8-4CF2-8866-5D38E938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D7640-D101-4EAF-8877-A99D9D20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96183-04C6-4B2E-A563-06A3A592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B146-586F-41E4-8711-D801E5D4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D7B1-0592-4E93-B1E5-8ADC54FD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90B81-BC9D-4FCA-9D68-81C8DFF0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2A657-BBD0-42B0-B16A-4A599549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954D0-EDBA-4B13-ADE3-9F7969C1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54EC-2E2C-4EDC-B8E6-89A0F315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D1388-3152-4B55-85A9-BFA215E2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D73B1-5B01-49A7-8B62-E758EB12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F9B74-6B76-4BB6-9AE6-FB4A5A8C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E816E-2471-4791-AFDE-03059F3A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F468F-5F41-4B11-A22E-8059B0B0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35851-319C-4056-A1F7-170A59DB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A1706-2868-4F4D-B870-D280037C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E761B-F3CF-4057-9F2A-A368BCEF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41870-14E4-4CFC-AF26-4A7E5DC7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44A5C-213F-4C4C-A072-986B56D7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7119-5C74-4271-A18A-EFF5EBCC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04292-D501-4277-A02B-A0F396A4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97868-9DA5-4081-91AE-25BDE0A6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4506A-0240-4843-8DC1-B539B108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4B3B9-092A-40E2-A03C-5DE8AA4E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BB311-D14B-4096-AC2E-619EBA03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27FF0-EC46-4234-814C-3BF6EA2B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90AD1-A961-404E-ACCB-E8805118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10714-0E54-4E97-9EC9-CAA9CFCD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4BE02-E385-4C02-AB1D-6AEEC0A0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70472-6633-4D98-881F-F582B3E04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3A2C-83A5-48D1-895D-D2D00593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052D9-845F-4CE7-BA2C-A7172C877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2B07C-7618-4FA5-A234-5CADB2C5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8A812-3D43-45CD-BEAB-CCF52865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C927C-BBA0-4AF3-A47A-C54D1668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11C9F-457E-435F-A8F9-6B24A537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CF809-5B6A-4695-A860-608F9777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4D917-C75D-4FA2-AA4C-33E552BD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EF28C-D4B3-40BA-B61F-83B46CE4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1352B-7CF5-4C49-A6F9-A90470E6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9BF16-5961-4353-9B9E-0A95624B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3E0-3A8B-480A-A673-6EDF592F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D8E52-697B-427E-BEDC-8153EFC9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32F9C-8E88-4F9D-A5A0-2711AEBA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F0B9B-3D89-41F0-B1B8-C657DED1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71C-3F74-4C49-B4B4-B4266BB8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A378-CD54-4456-8856-343C8AEA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5c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9221-3330-4681-8419-D7A2830B6236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3952"/>
            </a:gs>
            <a:gs pos="100000">
              <a:srgbClr val="7a88a2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1432-8C4F-4D7B-B2A1-379F785DB0A4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3952"/>
            </a:gs>
            <a:gs pos="100000">
              <a:srgbClr val="7a88a2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5EF0-2E99-4AB5-B426-57A8011D1094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5c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CE7C-267A-473B-B9AB-AA66EB5EBF67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5c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0769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2c3fa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551E-4695-4CBE-A7A2-4D7702350FB5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5c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a37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b0ccb0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8cdd7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bea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92d0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cad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FC09-1D9E-4191-AA1B-E5171F0D5726}" type="slidenum">
              <a:rPr b="0" lang="en-US" sz="1000" spc="-1" strike="noStrike">
                <a:solidFill>
                  <a:srgbClr val="acad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Arial"/>
              </a:rPr>
              <a:t>By: Jeremy Tyler Jack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Nose Cone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e nose con should be pointed  and should be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able to cove the top of the rocket and it should be Pointed and it should be made out of a tough paper. 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Passive Recovery System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2d050"/>
                </a:solidFill>
                <a:latin typeface="Century"/>
                <a:ea typeface="Arial"/>
              </a:rPr>
              <a:t>Backslider </a:t>
            </a:r>
            <a:endParaRPr b="0" lang="en-US" sz="23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Century"/>
                <a:ea typeface="Arial"/>
              </a:rPr>
              <a:t>removal of the cone or a ball, or tilting the fins for a "spin" recovery</a:t>
            </a:r>
            <a:r>
              <a:rPr b="0" lang="en-US" sz="1900" spc="-1" strike="noStrike">
                <a:solidFill>
                  <a:srgbClr val="92d050"/>
                </a:solidFill>
                <a:latin typeface="Century"/>
                <a:ea typeface="Arial"/>
              </a:rPr>
              <a:t>. </a:t>
            </a:r>
            <a:r>
              <a:rPr b="0" lang="en-US" sz="1800" spc="-1" strike="noStrike">
                <a:solidFill>
                  <a:srgbClr val="92d050"/>
                </a:solidFill>
                <a:latin typeface="Century"/>
                <a:ea typeface="Arial"/>
              </a:rPr>
              <a:t>Backsliders which actually fall vertically without tipping at all.</a:t>
            </a: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2d050"/>
                </a:solidFill>
                <a:latin typeface="Century"/>
                <a:ea typeface="Arial"/>
              </a:rPr>
              <a:t> </a:t>
            </a:r>
            <a:endParaRPr b="0" lang="en-US" sz="23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2d050"/>
                </a:solidFill>
                <a:latin typeface="Century"/>
                <a:ea typeface="Arial"/>
              </a:rPr>
              <a:t> </a:t>
            </a:r>
            <a:endParaRPr b="0" lang="en-US" sz="23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92d050"/>
                </a:solidFill>
                <a:latin typeface="Century"/>
                <a:ea typeface="Arial"/>
              </a:rPr>
              <a:t>  </a:t>
            </a:r>
            <a:r>
              <a:rPr b="0" lang="en-US" sz="2300" spc="-1" strike="noStrike">
                <a:solidFill>
                  <a:srgbClr val="92d050"/>
                </a:solidFill>
                <a:latin typeface="Century"/>
                <a:ea typeface="Arial"/>
              </a:rPr>
              <a:t>Glider</a:t>
            </a:r>
            <a:endParaRPr b="0" lang="en-US" sz="23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2d050"/>
                </a:solidFill>
                <a:latin typeface="Century"/>
                <a:ea typeface="Arial"/>
              </a:rPr>
              <a:t>variations of gliders will deploy the wings at apogee and glide to the ground, which involves a change of shape which is now illegal. For building a glider you will have to have fixed wings at launch Two things to watch are: 1. That there is a rigid border to the wings and 2. That the covering on the wings is reasonably taut. </a:t>
            </a: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Length of body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A standard 1L carbonated bottle of any shape or color, but cannot be modified in any way. 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1 liter or less so you will be able to use anything smaller but nothing large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Fins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e fins add satiability so I would use 3 or 4 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Amount of Water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e amount of water should be where the sticker was on the bottle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Type of Glue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epoxie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92d050"/>
                </a:solidFill>
                <a:latin typeface="Franklin Gothic Book"/>
              </a:rPr>
              <a:t>Center of Gravity</a:t>
            </a:r>
            <a:endParaRPr b="0" lang="en-US" sz="4600" spc="-1" strike="noStrike">
              <a:solidFill>
                <a:srgbClr val="92d050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72a37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Arial"/>
              </a:rPr>
              <a:t>The center of gravity is where you put it on your finger it will balance</a:t>
            </a:r>
            <a:endParaRPr b="0" lang="en-US" sz="30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2:32:24Z</dcterms:created>
  <dc:creator>BPS</dc:creator>
  <dc:description/>
  <dc:language>en-US</dc:language>
  <cp:lastModifiedBy>BPS</cp:lastModifiedBy>
  <dcterms:modified xsi:type="dcterms:W3CDTF">2011-10-12T19:35:38Z</dcterms:modified>
  <cp:revision>7</cp:revision>
  <dc:subject/>
  <dc:title>Bottle Rockets</dc:title>
</cp:coreProperties>
</file>